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007E-7666-4A07-B77D-1F16E1B1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DF9B-4699-4962-ABA1-EBFB6B7B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reamstime.com/royalty-free-stock-images-dna-helix-isolated-image4928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12CE-E56A-4F55-BEB1-AA35C81C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C72-48B4-489A-B4F4-889D27AE5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ii/cell-reproduction/meiosi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668-A175-434B-A1CA-740181DAD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ol is this animation?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okyo-med.ac.jp/genet/mfi-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ki.se/groups/ljo/research/research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3A2-4C40-43BD-AB96-ADAB47AA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D51-4F5A-4773-A7CA-D30B531D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8CF6-0C49-4293-BD47-F6CAF3D3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legacy.owensboro.kctcs.edu/gcaplan/anat2/notes/APIINotes2%20meio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A05A-7B4C-4AEA-947B-057CA352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9A5-8ADA-4835-9776-EC915391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smokefurr.proboards.com/index.cgi?board=general&amp;action=display&amp;threa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E58-2F05-4E71-96BD-8246BFAC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le or female?  autosome vs. sex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cl.ac.uk/~ucbhjow/medicine/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B41-9326-45D9-9BA1-9E1A099E6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cistroh.wordpress.com/2011/02/28/karyotyp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37B-87FE-422B-8557-3156CD3A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D6D4-9EB1-432C-8979-A6177945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chem.co/2010/01/dna-mutations-and-genetic-diseas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E7B4-9885-4356-A907-5D07BD2A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ioslibres.info/coevolution-and-symbiosi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external fertiliz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symbiosis (clownfish eat harmful small invertebrates &amp; are protected from predators and immune to stinging of anemone;  clownfish fecal matter provides nutrients to anem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2D76-CF34-44F4-92C7-374A3F61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02B1-2429-48F6-A183-18287F57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Human_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8CA0-4DFD-4140-B46F-56105FB8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bio1100.nicerweb.com/Locked/media/ch08/chromos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CF26-9A56-4BA6-ACE1-A36BF080D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rationalwiki.org/w/images/thumb/b/b4/Meiosis.gif/250px-Meiosi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: http://vcell.ndsu.nodak.edu/animations/meiosis/movie-flash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CCEE-8FE0-465B-8B4B-3737757D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assets.openstudy.com/updates/attachments/51b0780fe4b05b167ed2bccb-abb0t-1370531715326-crossingover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8537-D386-4846-BA54-BAF8406E5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rsnatzkesbiology.blogspot.ca/2009/11/stages-of-mitosis-and-meiosis_1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4DE-368D-4C9B-BF47-9DCFDB9A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363-075C-4023-8C38-108CF116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F8A-D05B-4DCC-9B6A-E71493D8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A0B-97FB-4C6C-87C4-B1618770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AA5-DC83-491D-B7A0-A650EB7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701-E09B-46EA-9E8E-26BDF6F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3EC-03A0-4584-9A86-9C5E36B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B9A-E251-4C4C-A394-D5D3B6E5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110-DBAC-45DC-AFAF-D59A731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05C-CB1E-47D5-8871-C91C64F0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EF8-E4E9-4BF8-AACC-335C05A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B13-6ADA-4CBD-A611-0426106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F77-B8FF-4673-8826-4F7313BAC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cell.ndsu.nodak.edu/animations/meiosis/movie-flash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img26"/>
          <p:cNvPicPr/>
          <p:nvPr/>
        </p:nvPicPr>
        <p:blipFill>
          <a:blip r:embed="rId1"/>
          <a:stretch/>
        </p:blipFill>
        <p:spPr>
          <a:xfrm>
            <a:off x="1414440" y="609480"/>
            <a:ext cx="6313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meiosisii-stage"/>
          <p:cNvPicPr/>
          <p:nvPr/>
        </p:nvPicPr>
        <p:blipFill>
          <a:blip r:embed="rId1"/>
          <a:stretch/>
        </p:blipFill>
        <p:spPr>
          <a:xfrm>
            <a:off x="685800" y="1255680"/>
            <a:ext cx="77724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mimov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cover3background.jpeg"/>
          <p:cNvPicPr/>
          <p:nvPr/>
        </p:nvPicPr>
        <p:blipFill>
          <a:blip r:embed="rId1"/>
          <a:srcRect l="0" t="15393" r="0" b="15393"/>
          <a:stretch/>
        </p:blipFill>
        <p:spPr>
          <a:xfrm>
            <a:off x="755640" y="765000"/>
            <a:ext cx="77025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ame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rmatoge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mation sperm cells &amp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oge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mation of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ic division is not equal in o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gametogenesis"/>
          <p:cNvPicPr/>
          <p:nvPr/>
        </p:nvPicPr>
        <p:blipFill>
          <a:blip r:embed="rId1"/>
          <a:stretch/>
        </p:blipFill>
        <p:spPr>
          <a:xfrm>
            <a:off x="2209680" y="6094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ary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ryo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icture of all of the chromosomes in a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to identify some chromosomal abnorm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karyotype2"/>
          <p:cNvPicPr/>
          <p:nvPr/>
        </p:nvPicPr>
        <p:blipFill>
          <a:blip r:embed="rId1"/>
          <a:stretch/>
        </p:blipFill>
        <p:spPr>
          <a:xfrm>
            <a:off x="152280" y="1924200"/>
            <a:ext cx="891540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uman_karyotype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karyotype_normal"/>
          <p:cNvPicPr/>
          <p:nvPr/>
        </p:nvPicPr>
        <p:blipFill>
          <a:blip r:embed="rId1"/>
          <a:stretch/>
        </p:blipFill>
        <p:spPr>
          <a:xfrm>
            <a:off x="884160" y="533520"/>
            <a:ext cx="737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and fema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me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bin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tilization can be external or in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risomy21female"/>
          <p:cNvPicPr/>
          <p:nvPr/>
        </p:nvPicPr>
        <p:blipFill>
          <a:blip r:embed="rId1"/>
          <a:stretch/>
        </p:blipFill>
        <p:spPr>
          <a:xfrm>
            <a:off x="1092240" y="1981080"/>
            <a:ext cx="695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lownfish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olog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 in shape and size (and genetic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23 homologous pairs of chromosomes in our body cells (22 pair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1 pair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x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260px-Karyotype"/>
          <p:cNvPicPr/>
          <p:nvPr/>
        </p:nvPicPr>
        <p:blipFill>
          <a:blip r:embed="rId1"/>
          <a:stretch/>
        </p:blipFill>
        <p:spPr>
          <a:xfrm>
            <a:off x="2270160" y="1600200"/>
            <a:ext cx="46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32" descr="08_02"/>
          <p:cNvPicPr/>
          <p:nvPr/>
        </p:nvPicPr>
        <p:blipFill>
          <a:blip r:embed="rId1"/>
          <a:stretch/>
        </p:blipFill>
        <p:spPr>
          <a:xfrm>
            <a:off x="685800" y="1006560"/>
            <a:ext cx="77724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are gametes form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and female gametes are formed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2" descr="250px-Meiosis.gif"/>
          <p:cNvPicPr/>
          <p:nvPr/>
        </p:nvPicPr>
        <p:blipFill>
          <a:blip r:embed="rId2"/>
          <a:srcRect l="-11716" t="0" r="-11716" b="0"/>
          <a:stretch/>
        </p:blipFill>
        <p:spPr>
          <a:xfrm>
            <a:off x="4427640" y="1700280"/>
            <a:ext cx="439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airs come together, form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2" descr="51b0780fe4b05b167ed2bccb-abb0t-1370531715326-crossingover.jpeg"/>
          <p:cNvPicPr/>
          <p:nvPr/>
        </p:nvPicPr>
        <p:blipFill>
          <a:blip r:embed="rId1"/>
          <a:srcRect l="-24443" t="0" r="-24443" b="0"/>
          <a:stretch/>
        </p:blipFill>
        <p:spPr>
          <a:xfrm>
            <a:off x="4211640" y="1700280"/>
            <a:ext cx="468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eiosis"/>
          <p:cNvPicPr/>
          <p:nvPr/>
        </p:nvPicPr>
        <p:blipFill>
          <a:blip r:embed="rId1"/>
          <a:stretch/>
        </p:blipFill>
        <p:spPr>
          <a:xfrm>
            <a:off x="1674720" y="609480"/>
            <a:ext cx="579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0:48:18Z</dcterms:created>
  <dc:creator>rubina khan</dc:creator>
  <dc:description/>
  <dc:language>en-US</dc:language>
  <cp:lastModifiedBy>rubina khan</cp:lastModifiedBy>
  <dcterms:modified xsi:type="dcterms:W3CDTF">2017-02-09T10:31:10Z</dcterms:modified>
  <cp:revision>66</cp:revision>
  <dc:subject/>
  <dc:title>PowerPoint Presentation</dc:title>
</cp:coreProperties>
</file>